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3D1-4D92-46BA-B7DB-14CBCB1161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C71-4813-4491-8434-0E17FFDE24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D23-DB37-4543-97B5-4BA462F7B9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6CF6-5707-4D70-92F6-75C7FB4DBA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76A-743D-4F3C-A41C-11E6FCA246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A98F-4383-4560-A5BF-D8B52015ED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96EA-A4AC-4817-8390-696E850FBF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67E-6315-4216-8913-B9B5593BBB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B11-7195-4C80-B385-AF7CB62529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D141-F2C3-4F9B-9DBF-9AE0F387A0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B3F-6B23-41D0-AFC8-6E623576A9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3F7-96E8-4384-9696-D5A821636C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7BD-64B2-4A65-956B-C55D87A2B1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1F6-87D1-4AC9-8A96-BB4120CB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5DC-FF49-4043-9C63-E3B9B0F0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CB8-58FE-40B1-8DCE-3B2DD735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142-8F03-43A1-898B-5ECF314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3A6-F7CD-43AD-98F1-F3B88D49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778-58F8-4768-9E5F-7A374DA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928-0378-46EC-A4A3-0EFF55B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1F7-2F6D-4568-8007-6B45F4B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3E4-0E02-4E72-A594-55F867C3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DBA-D96B-4310-BD10-050F0D4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5BD-C5DC-4A83-BD77-8444898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FDE-9FCA-45B2-A24C-B5DF1CC8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3F8A-0635-4115-BBD1-D8EDE0760F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a50021"/>
                </a:solidFill>
                <a:latin typeface="Arial"/>
              </a:rPr>
              <a:t>الطرق الحقلية  العميقة لقياس النفاذ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942280" y="3595680"/>
            <a:ext cx="30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إعداد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مهندسة رزان غالي</a:t>
            </a: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808000" y="474804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إشراف الدكتور المهندس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حمد نصا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4000" y="549360"/>
            <a:ext cx="864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a50021"/>
                </a:solidFill>
                <a:latin typeface="Arial"/>
              </a:rPr>
              <a:t>ثالثا - طريقة تجارب الضخ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بمكن أن نميز حالتين لهذه التجربة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- الطبقات النفوذة تستند إلى طبقة كتيمة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تحديد النفاذية بحفر بثر حتى نهاية الطبقة النفوذة وثم ضخ  الماء منه بمعدل ثابت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تى يصل منسوب الماء في البئر إلى حد ثابت تقريبا  وتتم مراقبة حالة الانتظام لسطح الما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بحفر آبار مراقبة قريبة من بئر الضخ  ويبين الشكل التجرب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:\Documents and Settings\inshai2\سطح المكتب\IMAGE0013.JPG"/>
          <p:cNvPicPr/>
          <p:nvPr/>
        </p:nvPicPr>
        <p:blipFill>
          <a:blip r:embed="rId1"/>
          <a:stretch/>
        </p:blipFill>
        <p:spPr>
          <a:xfrm>
            <a:off x="2530440" y="3517920"/>
            <a:ext cx="421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1835280" y="3716280"/>
                <a:ext cx="27144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Rectangle 6"/>
          <p:cNvSpPr/>
          <p:nvPr/>
        </p:nvSpPr>
        <p:spPr>
          <a:xfrm>
            <a:off x="684360" y="90792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م تسجيل مستوى  الماء في بئري المراقبة  وكذلك يتم تسجيل المسافة بيت كل بئر مراقبة و بئر الاختبار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يعطى  معامل النفاذية كما يلي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50920" y="907920"/>
            <a:ext cx="844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- الطبقات النفوذة تستند إلى طبقة كتيمة  وتعلوها طبقة كتبمة :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يتم تحديد النفاذية بالضخ أيضا في الابار الارتوازية و يحسب من العلاقة :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2928960" y="2214720"/>
                <a:ext cx="29750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5" name="Picture 16" descr="C:\Documents and Settings\inshai2\سطح المكتب\Photo-0003.jpg"/>
          <p:cNvPicPr/>
          <p:nvPr/>
        </p:nvPicPr>
        <p:blipFill>
          <a:blip r:embed="rId1"/>
          <a:stretch/>
        </p:blipFill>
        <p:spPr>
          <a:xfrm>
            <a:off x="2286000" y="3857760"/>
            <a:ext cx="514368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Documents and Settings\inshai2\سطح المكتب\Photo-0004.jpg"/>
          <p:cNvPicPr/>
          <p:nvPr/>
        </p:nvPicPr>
        <p:blipFill>
          <a:blip r:embed="rId2"/>
          <a:stretch/>
        </p:blipFill>
        <p:spPr>
          <a:xfrm>
            <a:off x="2286000" y="3857760"/>
            <a:ext cx="5143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0" y="836640"/>
            <a:ext cx="86392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هناك عدة أنواع من التجارب الحقلية المتوفرة لتحديد عامل نفوذية الترب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من هذه التجارب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a50021"/>
                </a:solidFill>
                <a:latin typeface="Arial"/>
              </a:rPr>
              <a:t>أولا - تجربة النهاية المفتوحة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pen End TEST</a:t>
            </a:r>
            <a:r>
              <a:rPr b="1" lang="ar-SA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الخطوة الأولى حفر السبر إلى العمق المطلوب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نزل ماسورة إلى قاع السبر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يتم تزويد الماء بمعدل ثابت من أعلى السبر فتتسرب المياه من خلال قاع  السبر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مستوى المياه داخل السبر يجب أن يبقى ثابتا  وعندما نصل إلى معدل ثابت من تزويد الماء  يمكننا عندها تحديد عامل النفوذية بالعلاقة التالية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916360" y="4941720"/>
                <a:ext cx="261432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755640" y="907920"/>
            <a:ext cx="788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يث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: معامل النفوذ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:المعدل الثابت لتزويد الماء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: نصف القطر الداخلي للتقو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: الضاغط المائي التفاضلي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H1+H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للضغط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للجاذب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AGE0010"/>
          <p:cNvPicPr/>
          <p:nvPr/>
        </p:nvPicPr>
        <p:blipFill>
          <a:blip r:embed="rId1"/>
          <a:stretch/>
        </p:blipFill>
        <p:spPr>
          <a:xfrm rot="16260000">
            <a:off x="2227320" y="661680"/>
            <a:ext cx="44035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333360"/>
            <a:ext cx="8459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000" spc="-1" strike="noStrike">
                <a:solidFill>
                  <a:srgbClr val="a50021"/>
                </a:solidFill>
                <a:latin typeface="Arial"/>
              </a:rPr>
              <a:t>ثانيا – اختبار الحشوة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acker Test</a:t>
            </a:r>
            <a:r>
              <a:rPr b="1" lang="ar-SY" sz="2000" spc="-1" strike="noStrike">
                <a:solidFill>
                  <a:srgbClr val="a50021"/>
                </a:solidFill>
                <a:latin typeface="Arial"/>
              </a:rPr>
              <a:t> 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هناك نمطان  أساسيان لهذه التجربة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جربة النفاذية في السبور الاستكشاف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جربة النفاذية في سبور الحق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تجرى لجزء من السبر خلال الحفر أو بعد الانتهاء من عملية الحفر . حيث يزود الماء تحت الضغط بمعدل ثابت لجزء من السبر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ي النمط الاول يتم ضخ الماء ضمن السبر المحفور في مجال يتم تحديده باستخدا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r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كما هو مبين في الشكل  ومن ثم قياس كمية الماء المتسربة عبر مجال السبر ضمن زمن محدد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وتحت ضغط محد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6313320" y="3357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788000" y="5300640"/>
            <a:ext cx="195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E0012"/>
          <p:cNvPicPr/>
          <p:nvPr/>
        </p:nvPicPr>
        <p:blipFill>
          <a:blip r:embed="rId1"/>
          <a:srcRect l="0" t="0" r="0" b="6237"/>
          <a:stretch/>
        </p:blipFill>
        <p:spPr>
          <a:xfrm rot="10680000">
            <a:off x="1076400" y="331560"/>
            <a:ext cx="6294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11280" y="69228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وتقاس النفاذية تبعا لذلك باستخدام وحد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e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تي تعرف بانها معدل الماء الممتص باللتر للمتر الطولي من خلال دقيقة واحدة  وعند ضغط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bar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وتعرف بالحالة العامة كما يلي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eon unit =  Q(1/min)/1(1/min)   *     1m/L(m)   *   10(bars)/p(b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حيث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التدفق ،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طول المجال  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الضغط الفعلي المطب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تجرى هذه التجربة لكل مجال على طول السبر  على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مراحل بحيث تكون مدة كل مرحلة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دقائق و تسلسل الضغوط كالتالي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/4  -   P/2 -  P -  P/2 -  P/4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ويتم بعد ذلك تحديد قي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معامل النفاذية عند كل مرحلة  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ما في النمط الثاني فإن التجربة تجرى على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مراحل فقط باستخدام  ضغط واحد فقط  وبزمن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دقائق لكل مرحل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932360" y="1989000"/>
            <a:ext cx="3984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يث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يث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: معامل النفوذ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: نصف القطر الداخلي للتقوية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: الضاغط المائي التفاضلي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H1+H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للضغط  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للجاذبي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: طول جزء السبر المختبر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826920" y="620640"/>
                <a:ext cx="23749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826920" y="2060640"/>
                <a:ext cx="22971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Rectangle 10"/>
          <p:cNvSpPr/>
          <p:nvPr/>
        </p:nvSpPr>
        <p:spPr>
          <a:xfrm>
            <a:off x="3922560" y="1125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 L&gt;=10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848400" y="220500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10r &gt; L&gt;=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220920" y="333360"/>
            <a:ext cx="65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يمكن 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يضا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عيين معامل النفاذية من العلاقة التالية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AGE0011"/>
          <p:cNvPicPr/>
          <p:nvPr/>
        </p:nvPicPr>
        <p:blipFill>
          <a:blip r:embed="rId1"/>
          <a:stretch/>
        </p:blipFill>
        <p:spPr>
          <a:xfrm>
            <a:off x="1109520" y="1371600"/>
            <a:ext cx="692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2:20:25Z</dcterms:created>
  <dc:creator>osso</dc:creator>
  <dc:description/>
  <dc:language>en-US</dc:language>
  <cp:lastModifiedBy>inshai2</cp:lastModifiedBy>
  <dcterms:modified xsi:type="dcterms:W3CDTF">2010-05-31T09:33:14Z</dcterms:modified>
  <cp:revision>411</cp:revision>
  <dc:subject/>
  <dc:title> الأوتاد والاحتكاك السالب </dc:title>
</cp:coreProperties>
</file>