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513-B5A0-46A2-A103-224EB028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4BD-F810-4EFD-A8C8-861271D8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806-E472-4102-B3C4-21DE78BE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BCF-F8F1-4B48-93F3-31896061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AACD-2BA1-40C3-88FB-1B2E1DB0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6C4B-E961-4AC0-AC67-101F8635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B018-BB0F-468E-8DFC-28032617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6244-730D-4EB6-A8DE-AA625221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1998-F20B-434C-BEDE-6C1125B5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0A28-2E57-4B8C-A2BD-20305247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3D15-F713-4B49-A126-F0C16677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E60-E92C-420D-911D-E796F74C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B883-DA15-4203-BB36-E000F3F7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7FFF-DC68-4E3F-BDA2-96287638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30F5-17F1-48E7-BAAD-F9E40C69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D5B6-4C5D-4A5F-94E0-E20292DF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0A1D-2BA6-4ADB-9CF4-5E1222CF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43D-15D3-4129-86BA-B9242B84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427-F40D-4926-9439-900CFB65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1DB-D2D0-49DC-875D-4428F434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579-37C8-456C-BAE1-CB08E3A3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7FE-C388-4D05-B0D7-0DBCCF5F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5AE-9EA3-4857-9FE6-BE829910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50B-482C-48C8-874D-EBC53CB1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2119-1780-43E5-9F02-2BA90E9D4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4DF3-6671-417F-889D-D550E19D50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8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e5ffff"/>
                </a:solidFill>
                <a:latin typeface="Tahoma"/>
                <a:cs typeface="Tahoma"/>
              </a:rPr>
              <a:t>معاملات النفوذية في الرمل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  <a:ea typeface="Tahoma"/>
              </a:rPr>
              <a:t>Coefficient of permeability in s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e5ffff"/>
                </a:solidFill>
                <a:latin typeface="Tahoma"/>
                <a:ea typeface="Tahoma"/>
              </a:rPr>
              <a:t>1</a:t>
            </a:r>
            <a:r>
              <a:rPr b="0" lang="ar-SY" sz="4400" spc="-1" strike="noStrike">
                <a:solidFill>
                  <a:srgbClr val="e5ffff"/>
                </a:solidFill>
                <a:latin typeface="Tahoma"/>
                <a:ea typeface="Tahoma"/>
              </a:rPr>
              <a:t>- مقدمة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  <a:cs typeface="Tahoma"/>
              </a:rPr>
              <a:t>النفوذية تعبر عن قابلية التربة لتمرير الماء من خلالها وذلك باعتبارها جسم مسامي     ,     تتوقف نفوذية التربة ورشح الماء فيها على  العوامل التالية :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  <a:ea typeface="Tahoma"/>
              </a:rPr>
              <a:t>1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  <a:ea typeface="Tahoma"/>
              </a:rPr>
              <a:t>-نوع التربة .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  <a:ea typeface="Tahoma"/>
              </a:rPr>
              <a:t>- حجم وشكل حبيباتها .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  <a:ea typeface="Tahoma"/>
              </a:rPr>
              <a:t>- درجة تراصها .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  <a:ea typeface="Tahoma"/>
              </a:rPr>
              <a:t>- شكل و أبعاد الفراغات فيها .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  <a:ea typeface="Tahoma"/>
              </a:rPr>
              <a:t>5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  <a:ea typeface="Tahoma"/>
              </a:rPr>
              <a:t>- درجة حرارة الماء أو السائل الراشح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e5ffff"/>
                </a:solidFill>
                <a:latin typeface="Tahoma"/>
                <a:ea typeface="Tahoma"/>
              </a:rPr>
              <a:t>2</a:t>
            </a:r>
            <a:r>
              <a:rPr b="0" lang="ar-SY" sz="3600" spc="-1" strike="noStrike">
                <a:solidFill>
                  <a:srgbClr val="e5ffff"/>
                </a:solidFill>
                <a:latin typeface="Tahoma"/>
                <a:ea typeface="Tahoma"/>
              </a:rPr>
              <a:t>- نوع جريان الماء في التربة وفقا لحجم حبيباتها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Tahoma"/>
                <a:cs typeface="Tahoma"/>
              </a:rPr>
              <a:t>من المعروف أن هناك نوعان لحركة المياه وهما      :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Tahoma"/>
                <a:ea typeface="Tahoma"/>
              </a:rPr>
              <a:t>1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  <a:ea typeface="Tahoma"/>
              </a:rPr>
              <a:t>- صفحية : حيث تتحرك جزيئات الماء موازية لبعضه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  <a:ea typeface="Tahoma"/>
              </a:rPr>
              <a:t>- جائشة : حيث تتداخل و تتقاطع مسارات حركة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Tahoma"/>
                <a:cs typeface="Tahoma"/>
              </a:rPr>
              <a:t>جزيئات الماء .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Tahoma"/>
                <a:ea typeface="Tahoma"/>
              </a:rPr>
              <a:t>- و قد دلت أبحاث العلماء : جوكوفسكي,دارسي     بوازييل على أن حبيبات التربة التي قطرها أقل من 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  <a:ea typeface="Tahoma"/>
              </a:rPr>
              <a:t> مم تمنع الحركة الجائشة 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e5ffff"/>
                </a:solidFill>
                <a:latin typeface="Tahoma"/>
                <a:ea typeface="Tahoma"/>
              </a:rPr>
              <a:t>3</a:t>
            </a:r>
            <a:r>
              <a:rPr b="0" lang="ar-SY" sz="3600" spc="-1" strike="noStrike">
                <a:solidFill>
                  <a:srgbClr val="e5ffff"/>
                </a:solidFill>
                <a:latin typeface="Tahoma"/>
                <a:ea typeface="Tahoma"/>
              </a:rPr>
              <a:t>- معاملات النفاذية في الرمل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Tahoma"/>
                <a:ea typeface="Tahoma"/>
              </a:rPr>
              <a:t>3-1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  <a:cs typeface="Tahoma"/>
              </a:rPr>
              <a:t>طريقة هازن:الذي وجد تجريبيا أن لنفوذية الرمل المتجان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Tahoma"/>
                <a:ea typeface="Tahoma"/>
              </a:rPr>
              <a:t>     التركيب الحبي علاقة بالقطر الفعال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ar-SY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  <a:cs typeface="Tahoma"/>
              </a:rPr>
              <a:t>وفقا للعلاقة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K=C 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(D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0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)2  ( Cm/s)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  <a:ea typeface="Tahoma"/>
              </a:rPr>
              <a:t>: معامل نفوذية الرمل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  <a:ea typeface="Tahoma"/>
              </a:rPr>
              <a:t>  : ثابت يتغير من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O 1.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  <a:ea typeface="Tahoma"/>
              </a:rPr>
              <a:t>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0" lang="ar-SY" sz="1400" spc="-1" strike="noStrike">
                <a:solidFill>
                  <a:srgbClr val="ffffff"/>
                </a:solidFill>
                <a:latin typeface="Tahoma"/>
                <a:ea typeface="Tahoma"/>
              </a:rPr>
              <a:t>  :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  <a:ea typeface="Tahoma"/>
              </a:rPr>
              <a:t> القطر الفعال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m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  <a:ea typeface="Tahoma"/>
              </a:rPr>
              <a:t>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e5ffff"/>
                </a:solidFill>
                <a:latin typeface="Tahoma"/>
              </a:rPr>
              <a:t>3-2</a:t>
            </a:r>
            <a:r>
              <a:rPr b="0" lang="ar-SY" sz="4400" spc="-1" strike="noStrike">
                <a:solidFill>
                  <a:srgbClr val="e5ffff"/>
                </a:solidFill>
                <a:latin typeface="Tahoma"/>
              </a:rPr>
              <a:t> معادلة كازغراندي لمعامل نفوذية الرمل النظيف الناعم و المتوسط الخشونة :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=1,4.K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0,85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.(e)2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ar-SY" sz="4400" spc="-1" strike="noStrike">
                <a:solidFill>
                  <a:srgbClr val="e5ffff"/>
                </a:solidFill>
                <a:latin typeface="Tahoma"/>
              </a:rPr>
              <a:t> : معامل المسامية .               .</a:t>
            </a:r>
            <a:br>
              <a:rPr sz="4400"/>
            </a:br>
            <a:r>
              <a:rPr b="0" lang="ar-SY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0,85</a:t>
            </a:r>
            <a:r>
              <a:rPr b="0" lang="ar-SY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e5ffff"/>
                </a:solidFill>
                <a:latin typeface="Tahoma"/>
              </a:rPr>
              <a:t>: معامل النفاذية عند معامل مسامية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0,85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e5ffff"/>
                </a:solidFill>
                <a:latin typeface="Tahoma"/>
              </a:rPr>
              <a:t>3-3</a:t>
            </a:r>
            <a:r>
              <a:rPr b="0" lang="ar-SY" sz="4400" spc="-1" strike="noStrike">
                <a:solidFill>
                  <a:srgbClr val="e5ffff"/>
                </a:solidFill>
                <a:latin typeface="Tahoma"/>
              </a:rPr>
              <a:t> معادلة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apuis</a:t>
            </a:r>
            <a:r>
              <a:rPr b="0" lang="ar-SY" sz="4400" spc="-1" strike="noStrike">
                <a:solidFill>
                  <a:srgbClr val="e5ffff"/>
                </a:solidFill>
                <a:latin typeface="Tahoma"/>
              </a:rPr>
              <a:t> التجريبية :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00320" y="2890800"/>
            <a:ext cx="4743360" cy="1076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200320" y="2890800"/>
            <a:ext cx="4743360" cy="1076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200320" y="2890800"/>
            <a:ext cx="474336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9:12:56Z</dcterms:created>
  <dc:creator>م. رستم</dc:creator>
  <dc:description/>
  <dc:language>en-US</dc:language>
  <cp:lastModifiedBy>م. رستم</cp:lastModifiedBy>
  <dcterms:modified xsi:type="dcterms:W3CDTF">2010-05-16T19:54:46Z</dcterms:modified>
  <cp:revision>5</cp:revision>
  <dc:subject/>
  <dc:title>معاملات النفوذية في الرمل</dc:title>
</cp:coreProperties>
</file>